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0E05-AF76-473C-831D-20C88899D0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BACE-6AB6-409A-B667-BBC12369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7D0D-12D5-4B43-B4F2-2AD8070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FFB8-A750-415A-BB9F-025216D6A8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6C2A1-BA26-4F58-A16A-F79CB163E2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D4E34-957F-4BB1-9FF2-39885215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2FEAA-F728-4D9F-A99D-279D0267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2B2A9-1980-4AD0-AEA0-F827EEB3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D4E75-685A-4926-B927-8F1B7B37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5848D-C3D4-4CB9-819F-3B3CF212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C3509-64FA-4A49-B4F6-8EE42C63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58C2D-90CF-42AF-8335-929AE06B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1F634-5967-48CE-8B4B-4EBCD9E1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6019B-814C-4B96-9377-94891C72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B537D-E1A8-4F9F-B1D6-17793254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2C305-1364-4A3D-A172-EF2C6DBC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10164-5E52-419B-A039-DB5D217375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3411-6C21-4B33-9DF9-9FE25823B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EA37-3F48-488B-A09A-5A023968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822A-2AE8-4C66-BC1B-2176F58E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5382-957E-488B-B046-5A5F4045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DAFC-BEF4-4654-B5D9-DD9BB76B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3030-E3E1-4365-8CF8-17FAF4BB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F3A7-9B93-43CC-A302-49B07000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29FF-CA08-4308-B4EE-51E24255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3433-F819-4FC5-AC66-416F64B5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3421-82BF-4053-93BE-F4E55FCE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87A1-3BCD-45CE-8AAE-3B4A547C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24D0-0F4F-4714-AFF2-31C1A5E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3C1C-E6BD-4D61-81B6-99DE484A84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ABDF6-887D-43A6-90CB-5FCD0F306B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2C829-CBAD-454E-849C-3F4F8330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DC47B-717E-47AA-A892-BE84321E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53C5F-7C30-4DF8-A092-18994F02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061FB-53F9-43F7-AD46-602C0A80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826C9-9989-456A-88AC-5A222614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641A7-1799-4081-ACEA-934FA139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DD44B-52E3-4F63-9B18-256A279D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23672-19C1-4136-BF32-91177B78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77127-21F5-480A-9EC8-86049A76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B2385-24ED-4BEE-83BA-6C329DF9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3ECAC-47B3-41A9-8930-0AC6707C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92D03-9306-4E94-A30A-C310E409A8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392B1-CCB3-43A2-9099-F4DC498E43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8323-CE81-42D1-A010-D9A0C4D4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84D7A-9EAB-4323-8486-F723B1EC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1042FE-3F67-43A7-88F7-DCBB7DA8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7C0DB-47E3-40BE-8E4A-7F20CD6E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2C1F3C-B2CE-43A2-86E5-0AEFE252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FAD34-3569-482F-8D37-C469C80E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CA70F-8C77-42E9-8E3E-080F2EFC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52EBA2-53BB-4680-90EE-2F6290B3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AD653-2F82-4B7E-91B2-DFB7E0F0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C4118-F138-47E9-8762-A4475D03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621DB-3506-4A8F-A087-48087FD9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94C0-E76A-4A11-969F-DF93A660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8F858-B68C-43CB-A6A7-236D283B5F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2BF2-14C0-4423-8040-9B12BC3D1C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37420-43F2-4DC1-A2D6-4E8605C4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906F-CDF1-4F4F-B4E0-DB65A1C5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771A6-CA10-4A30-ACDC-878400FA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8D956-4FE0-4826-B6C0-D9DDA6E6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DF733-932E-4F35-9B0D-276C3A3F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9AAFF-4D69-4CBB-9A11-D30AEF24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2EF8E-C924-4C0B-B333-87DEFC4F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55D85-601D-40FA-8C28-FBFCBCD7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2BB6-EE3B-4CDB-9038-E123D4B2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3971-5B14-47B7-A46B-0CE7B43F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86C5-A732-4ACC-BF5A-F1165B60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32F5-EEA1-4689-B3C3-FEB06EBAB5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45E52-B974-4944-9A41-74A54A6E1C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DBA81-B2D7-4AE1-87F3-293A4CAD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FD41C-329D-45DF-805E-24E7B567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D79F0-1211-4519-8787-EAB6791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926D9-DB81-4CE5-8F07-3061339D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7611C-0143-45A2-AA25-B2B06964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19439-A5ED-4103-B30C-FB115D6C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6899-392E-4F65-8574-57C6900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2A3B5-FEF2-4C4E-A33A-DCF6926A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5E3DE-8B34-419B-8BB7-5ACBD9B6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2319B-F2DC-421E-AA3A-CA7A3FF8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BF185-524B-4A8C-9324-D6527541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36E50-0725-4D97-B30D-5D6521BE1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5F6075-C976-4524-9D2F-01980386E1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5A1813-61D6-42B6-8162-DB2E8BD2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DBC827-CB3B-4E83-A037-55D61DAA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2DD4CF-F5C8-4C98-9F77-21CA9ECB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E230CC-F763-4F89-8324-5C91C31D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EBBC-E07D-4639-B665-9B7DAFD8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E69F36-0BEB-4C0C-99F3-7BF3C1B0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5952DC-B02E-4473-9734-67075CAA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E6D05C-C9B0-49F6-98FB-70DD9B06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0D8434-F096-445B-B2D9-248C9F6F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97BD61-7AEC-409C-8F40-D53D5BD1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3F8656-EEB0-4935-BE15-ABE99B1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B16CCD-CAA5-4250-890A-5EB66F60D9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0EA6-F2C1-43B4-9D38-B7487096B4D6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Afbeelding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" name="Afbeelding 11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6"/>
          <p:cNvSpPr/>
          <p:nvPr/>
        </p:nvSpPr>
        <p:spPr>
          <a:xfrm>
            <a:off x="4678200" y="0"/>
            <a:ext cx="73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9DA0-EFBF-45E6-B46D-EE3471C574F1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C37E-8F22-4BE5-A8C5-4A9F96798297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4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6" descr=""/>
          <p:cNvPicPr/>
          <p:nvPr/>
        </p:nvPicPr>
        <p:blipFill>
          <a:blip r:embed="rId3"/>
          <a:stretch/>
        </p:blipFill>
        <p:spPr>
          <a:xfrm>
            <a:off x="2411280" y="58680"/>
            <a:ext cx="792360" cy="62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4"/>
          <a:stretch/>
        </p:blipFill>
        <p:spPr>
          <a:xfrm>
            <a:off x="324000" y="57240"/>
            <a:ext cx="792000" cy="63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95FF-3C9A-4644-A673-E36E2EB744C1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89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3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4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9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0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0949-2550-4762-B8F3-1D10F5223068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3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4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65FB-2FA2-410E-AF1B-9395004F543D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8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7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88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37BF-65BD-4DB2-B2E5-42ED3F86BA9E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330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34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3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2868-7980-441B-A7AA-188A1393E377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mailto:Arne.theil@ptno.nl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5905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Afbeelding 5" descr="vts.jpg"/>
          <p:cNvPicPr/>
          <p:nvPr/>
        </p:nvPicPr>
        <p:blipFill>
          <a:blip r:embed="rId1"/>
          <a:stretch/>
        </p:blipFill>
        <p:spPr>
          <a:xfrm>
            <a:off x="5076720" y="2637000"/>
            <a:ext cx="3275280" cy="2016000"/>
          </a:xfrm>
          <a:prstGeom prst="rect">
            <a:avLst/>
          </a:prstGeom>
          <a:ln w="0">
            <a:noFill/>
          </a:ln>
        </p:spPr>
      </p:pic>
      <p:pic>
        <p:nvPicPr>
          <p:cNvPr id="380" name="Afbeelding 6" descr="southamptonvts2.jpg"/>
          <p:cNvPicPr/>
          <p:nvPr/>
        </p:nvPicPr>
        <p:blipFill>
          <a:blip r:embed="rId2"/>
          <a:stretch/>
        </p:blipFill>
        <p:spPr>
          <a:xfrm>
            <a:off x="539640" y="4076640"/>
            <a:ext cx="4295880" cy="2333520"/>
          </a:xfrm>
          <a:prstGeom prst="rect">
            <a:avLst/>
          </a:prstGeom>
          <a:ln w="0">
            <a:noFill/>
          </a:ln>
        </p:spPr>
      </p:pic>
      <p:sp>
        <p:nvSpPr>
          <p:cNvPr id="381" name="Tekstvak 7"/>
          <p:cNvSpPr/>
          <p:nvPr/>
        </p:nvSpPr>
        <p:spPr>
          <a:xfrm>
            <a:off x="996480" y="242100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e Th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c9c9e"/>
                </a:solidFill>
                <a:uFillTx/>
                <a:latin typeface="Arial"/>
                <a:hlinkClick r:id="rId3"/>
              </a:rPr>
              <a:t>arne.theil@tno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1-88-8664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6440" y="1412640"/>
            <a:ext cx="82076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03280" y="3212640"/>
            <a:ext cx="6624720" cy="22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h lis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O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64087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september 2010: IALA → TNO: ‘Can TNO upgrade CARPET v2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ebruari 2011: TNO → IALA: ‘Can IALA support the business case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januari 2012: TNO presentation during IALA subcommittee. Prior to this meeting, TNO has sent-out wish l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xtensions must the new version of CARPET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development of the new version going to be financ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264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4816440" y="189000"/>
            <a:ext cx="1828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1042920" y="2276640"/>
            <a:ext cx="43344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6300720" y="3500280"/>
            <a:ext cx="432000" cy="4334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1835280" y="4797360"/>
            <a:ext cx="43308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"/>
          <p:cNvSpPr/>
          <p:nvPr/>
        </p:nvSpPr>
        <p:spPr>
          <a:xfrm>
            <a:off x="3708360" y="2781360"/>
            <a:ext cx="43200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9"/>
          <p:cNvSpPr/>
          <p:nvPr/>
        </p:nvSpPr>
        <p:spPr>
          <a:xfrm>
            <a:off x="4572000" y="4581360"/>
            <a:ext cx="43164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Isosceles Triangle 10"/>
          <p:cNvSpPr/>
          <p:nvPr/>
        </p:nvSpPr>
        <p:spPr>
          <a:xfrm>
            <a:off x="1763640" y="2637000"/>
            <a:ext cx="432000" cy="4316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Isosceles Triangle 11"/>
          <p:cNvSpPr/>
          <p:nvPr/>
        </p:nvSpPr>
        <p:spPr>
          <a:xfrm>
            <a:off x="3851280" y="2924280"/>
            <a:ext cx="433440" cy="4334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3635280" y="306864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780000" y="4437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6443640" y="378936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7667640" y="1989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5-Point Star 19"/>
          <p:cNvSpPr/>
          <p:nvPr/>
        </p:nvSpPr>
        <p:spPr>
          <a:xfrm>
            <a:off x="5364000" y="213372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6" y="192221"/>
                </a:lnTo>
                <a:lnTo>
                  <a:pt x="503236" y="192219"/>
                </a:lnTo>
                <a:lnTo>
                  <a:pt x="347727" y="311017"/>
                </a:lnTo>
                <a:lnTo>
                  <a:pt x="407127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0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-Point Star 20"/>
          <p:cNvSpPr/>
          <p:nvPr/>
        </p:nvSpPr>
        <p:spPr>
          <a:xfrm>
            <a:off x="6156360" y="3645000"/>
            <a:ext cx="503280" cy="5047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-Point Star 21"/>
          <p:cNvSpPr/>
          <p:nvPr/>
        </p:nvSpPr>
        <p:spPr>
          <a:xfrm>
            <a:off x="5508720" y="5445000"/>
            <a:ext cx="503280" cy="5050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960 h 505080"/>
              <a:gd name="textAreaBottom" fmla="*/ 385920 h 50508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-Point Star 22"/>
          <p:cNvSpPr/>
          <p:nvPr/>
        </p:nvSpPr>
        <p:spPr>
          <a:xfrm>
            <a:off x="2484360" y="400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7">
                <a:moveTo>
                  <a:pt x="1" y="192219"/>
                </a:moveTo>
                <a:lnTo>
                  <a:pt x="192221" y="192220"/>
                </a:lnTo>
                <a:lnTo>
                  <a:pt x="251619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7" y="311016"/>
                </a:lnTo>
                <a:lnTo>
                  <a:pt x="407127" y="503235"/>
                </a:lnTo>
                <a:lnTo>
                  <a:pt x="251619" y="384436"/>
                </a:lnTo>
                <a:lnTo>
                  <a:pt x="96110" y="503235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5-Point Star 23"/>
          <p:cNvSpPr/>
          <p:nvPr/>
        </p:nvSpPr>
        <p:spPr>
          <a:xfrm>
            <a:off x="3492360" y="256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8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7" y="192221"/>
                </a:lnTo>
                <a:lnTo>
                  <a:pt x="503237" y="192219"/>
                </a:lnTo>
                <a:lnTo>
                  <a:pt x="347727" y="311017"/>
                </a:lnTo>
                <a:lnTo>
                  <a:pt x="407128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1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2152080" y="616572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agreement as well as disagre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788000" y="260280"/>
            <a:ext cx="18000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95280" y="1628640"/>
          <a:ext cx="8280360" cy="462276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latest generation solid state coherent VTS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F/RF/pulslength/pulse compression ag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 Doppler filter coefficients, non standard Doppler filt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Terma’s frequency 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C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ing tool, modelling of a radar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 and other receiver characteristics (e.g. lin/log, limited number of bi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tool’, command interf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/fail verdict that relates to IAL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ide-lo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borne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6193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248A-2634-4E62-BC7A-73EB39A14C1E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95280" y="1628640"/>
          <a:ext cx="8280360" cy="268308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sea clutter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extensive specification of loss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velocity aver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NO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920" y="2199960"/>
            <a:ext cx="70581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of the latest generation solid state coherent VTS rad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: complex waveform (RF/PRF/pulse length agility), post-detection binary integration, extensive loss factor specification, (partially) encrypted settings files, feedback of OEMs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point-like target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dvanced modern GUI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F8B5-59CE-4818-82C2-7D6D4F805769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6337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9640" y="2199960"/>
            <a:ext cx="8136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w CARPET-VTS will be able to assess the performance of the latest generation coherent VTS rad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the modernisation of CARPET, future steps, such as the analysis of radar networks can be taken more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16mScenario7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5:11:03Z</dcterms:created>
  <dc:creator/>
  <dc:description/>
  <dc:language>en-US</dc:language>
  <cp:lastModifiedBy/>
  <dcterms:modified xsi:type="dcterms:W3CDTF">2013-09-15T11:57:33Z</dcterms:modified>
  <cp:revision>77</cp:revision>
  <dc:subject>Powerpoint Wizzard</dc:subject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">
    <vt:lpwstr>M Bouman </vt:lpwstr>
  </property>
  <property fmtid="{D5CDD505-2E9C-101B-9397-08002B2CF9AE}" pid="3" name="Color">
    <vt:lpwstr>True</vt:lpwstr>
  </property>
  <property fmtid="{D5CDD505-2E9C-101B-9397-08002B2CF9AE}" pid="4" name="CreationBy">
    <vt:lpwstr>boumanm</vt:lpwstr>
  </property>
  <property fmtid="{D5CDD505-2E9C-101B-9397-08002B2CF9AE}" pid="5" name="CreationDate">
    <vt:lpwstr>10-1-2011 15:59:00</vt:lpwstr>
  </property>
  <property fmtid="{D5CDD505-2E9C-101B-9397-08002B2CF9AE}" pid="6" name="DateText">
    <vt:lpwstr>10 januari 2011</vt:lpwstr>
  </property>
  <property fmtid="{D5CDD505-2E9C-101B-9397-08002B2CF9AE}" pid="7" name="Department">
    <vt:lpwstr>5299</vt:lpwstr>
  </property>
  <property fmtid="{D5CDD505-2E9C-101B-9397-08002B2CF9AE}" pid="8" name="FavoriteLink1Image">
    <vt:lpwstr>TNOdummytijdsbalkbeeld001.jpg</vt:lpwstr>
  </property>
  <property fmtid="{D5CDD505-2E9C-101B-9397-08002B2CF9AE}" pid="9" name="FavoriteLink1Index">
    <vt:lpwstr>1</vt:lpwstr>
  </property>
  <property fmtid="{D5CDD505-2E9C-101B-9397-08002B2CF9AE}" pid="10" name="FavoriteLink2Image">
    <vt:lpwstr>TNOdummytijdsbalkbeeld002.jpg</vt:lpwstr>
  </property>
  <property fmtid="{D5CDD505-2E9C-101B-9397-08002B2CF9AE}" pid="11" name="FavoriteLink2Index">
    <vt:lpwstr>1</vt:lpwstr>
  </property>
  <property fmtid="{D5CDD505-2E9C-101B-9397-08002B2CF9AE}" pid="12" name="Grammar">
    <vt:lpwstr>1</vt:lpwstr>
  </property>
  <property fmtid="{D5CDD505-2E9C-101B-9397-08002B2CF9AE}" pid="13" name="PresentationDate">
    <vt:lpwstr>10-9-2013 13:44:43</vt:lpwstr>
  </property>
  <property fmtid="{D5CDD505-2E9C-101B-9397-08002B2CF9AE}" pid="14" name="ShowDate">
    <vt:lpwstr>True</vt:lpwstr>
  </property>
  <property fmtid="{D5CDD505-2E9C-101B-9397-08002B2CF9AE}" pid="15" name="ShowPages">
    <vt:lpwstr>True</vt:lpwstr>
  </property>
  <property fmtid="{D5CDD505-2E9C-101B-9397-08002B2CF9AE}" pid="16" name="SubTitle">
    <vt:lpwstr>Powerpoint Wizzard</vt:lpwstr>
  </property>
  <property fmtid="{D5CDD505-2E9C-101B-9397-08002B2CF9AE}" pid="17" name="Title">
    <vt:lpwstr>TNO Nieuwe huisstijl</vt:lpwstr>
  </property>
</Properties>
</file>